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D433-3AF0-46A0-AC69-CD1F1097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0F43-36C2-4B21-AD6F-609E8138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8A39-D592-4323-914B-C11BAAF5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8210-229D-4971-B538-9F83AAE23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D2CA-5376-49D7-9D51-56F2467A4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2F60-8E26-4CF1-A0CD-1B8D98B2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7FD4-4B6D-4FE5-B11E-80E3B068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C0F8-1B54-412F-9FA7-FA34B4B1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B705-ABE6-4FE2-A78B-5343B873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D704-208A-4546-B4F3-E365D7A1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1553-89B7-4714-8AC8-3B160553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562F-AC7D-4339-86BD-193616E0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62E4-E945-4BA3-829F-EB078737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D3D8-4022-43C8-919A-EC278765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F5BC-59A7-4764-B522-277B9B93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400E-C96C-4BE8-93A6-9D3A74E5B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514D-030C-4970-9A98-32836A04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978E-7082-47C2-847E-85C8D22A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2AD7-644D-4218-B407-588852F2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545F-5B28-4388-8A20-020052DF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E7B4-441C-49D1-802E-EA15E135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6D94-C3DC-409D-99D1-C19B1516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C9F8-57C9-475E-AF4F-9F893A76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D75D-3129-41EA-80A6-FD1B2606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0496-D2FA-4CAC-AE52-2F28EB22F4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1C6F-BB9D-4D7F-8B76-4C9AE0B23766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403280" y="156636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Формирование культуры здорового питания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3" name="Скругленный прямоугольник 3"/>
          <p:cNvSpPr/>
          <p:nvPr/>
        </p:nvSpPr>
        <p:spPr>
          <a:xfrm>
            <a:off x="3683160" y="6477120"/>
            <a:ext cx="17776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5biologiya.net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пекты технического окружен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анитария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чистая вода, санитарно-технические сооружения и надлежащее удаление отходов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ссортимент здоровой пищи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: полезные для здоровья и высококачественные продукты и питание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иятная обстановка для приема пищи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достаточно просторная и комфортабельная обстановка для общения во время приема пищи и для получения удовольствия от процесса питания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оронние поставщики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: поставщики продуктов питания, находящиеся на школьной территории или рядом с ней и предлагающие различные продукты, содействуя тем самым усилиям школы в области охраны здоровья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пециальные сооружения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: сооружения, позволяющие осуществлять практическую деятельность, связанную с питанием, например, приготовление пищи, эксперименты с продуктами и выращивание продуктов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пекты благоприятной для здоровья психосоциальной обстановк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ддержка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Обстановка должна способствовать формированию полезных для здоровья взглядов и соответствующим действиям школьного сообщества и должна поддерживать другие усилия в области охраны здоровья в школе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мер учителей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Учителя играют важную роль, являясь положительным примером для школьников и их наставниками. Питаясь с пользой для здоровья, они способствуют формированию у школьников здорового образа жизни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ддержка сверстников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Учащиеся могут обеспечить поддержку сверстникам, давая им рекомендации и постоянно напоминая о важности здорового питания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ациональное сбалансированное пит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итание человека должно быть рациональным, сбалансированным, т.е. соответствовать физиологическим потребностям организма с учетом условий труда, климатических особенностей местности, возраста, массы тела, пола и состояния здоровья человека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Основные принципы сбалансированного питан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трогое соответствие энергетической ценности пищи энергозатратам человек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Человек должен получать с пищей столько энергии, сколько он тратит ее за определенный отрезок времени)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оставляющие пищевые вещества (белки, жиры, углеводы, микроэлементы) должны находиться в строго определенном соотношении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Нормы соотношения белков, жиров, углеводов в рационе  основных групп населения  составляют 1:1,1:4; у лиц, занятых физическим трудом, - 1:1,3:5; у пожилых людей – 1:1,1:4,8)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00120" y="18108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ажным показателем в сбалансированном питании является соблюдение режима питани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Режим питания – это распределение пищи в течение дня по времени, калорийности, объему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оздание оптимальных условий для усвоения пищи человеком при составлении суточного рациона питани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  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Продукты, содержащие белки животного происхождения, следует планировать на первую половину дня, а молочно-растительные – на вторую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Энергетическая ценность суточных рационов должна обеспечиваться в основном углеводами растительной пищи, которая обогащает пищу витаминами, минеральными веществами и клетчаткой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49124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ы здоровьесберегающего питания. </a:t>
            </a:r>
            <a:br>
              <a:rPr sz="28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И.Ю.Яланузян - педагог-организатор санитарного надзора, заведующая технологической пищевой лабораторией ДО Я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00120" y="1844640"/>
            <a:ext cx="7491600" cy="43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1. Перечень документов, применяемых в работе предприятиями общественного питания при образовательных   учреждениях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2. Перечень продуктов и блюд, которые не допускаются для реализации в организациях общественного питания образовательных учреждений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3. Рекомендуемый ассортимент пищевых продуктов для организации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ополнительного питания обучающихс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4. Расчет дневного рациона питани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уточный расход энергии человек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Энергия, затрачиваемая на работу внутренних органов и теплообмен, называется основным обменом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При температуре воздуха 20 ºС, полном покое, натощак основной обмен составляет 1 ккал в 1 ч на 1 кг массы тела человека. Следовательно, основной обмен зависит от массы тела, пола, возраста человека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Расчет дневного рациона питания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ИЩЕВЫЕ     ДОБАВ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ищевые добавки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– это природные и синтетические химические соединения, которые не представляют собой источник энергии, как пища, а служат лишь добавкой в продукты для улучшения их качества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Классификация пищевых добавок выглядит следующим образо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100-Е182  -  красители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 устанавливают или восстанавливают цвет продукта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200 и далее  -  консерванты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повышает срок хранения продуктов, защищая их от микробов; добавки при  созревании вин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300 и далее  -  антиокислители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 защищают от окисления, например, от прогоркания жиров, изменения цвета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400 и далее  -  стабилизаторы и загустители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 повышают вязкость продукта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450 и далее  -  эмульгаторы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создают однородную смесь  не смешиваемых фаз, например воды и масла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500 и далее  - регуляторы кислот и разрыхлители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600 и далее  -  усилители вкуса и аромата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– делают вкус продукта более насыщенным и ароматным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700 и Е800  -  запасные индексы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900  - глазирующие агенты и улучшители хлеба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ИЩЕВЫЕ ДОБАВКИ, ЗАПРЕЩЕННЫЕ В МИРЕ, НО РАЗРЕШЕННЫЕ В РОССИИ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Рациональное питание</a:t>
            </a: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 –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дно из основных средств обеспечения нормального физического и умственного развития детей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но повышает их устойчивость к болезням и успеваемость</a:t>
            </a:r>
            <a:r>
              <a:rPr b="1" i="1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и обеспечивается правильной организацией 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ПИТАНИЯ ОБУЧАЮЩИХСЯ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547640" y="333000"/>
            <a:ext cx="6912000" cy="575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Все болезни к нам приходят через рот.</a:t>
            </a:r>
            <a:br>
              <a:rPr sz="3200"/>
            </a:b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                                           Народная мудрость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олноценное питание – залог здоровья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                                         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Русская народная пословица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Животное насыщается, человек ест, умный человек питается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Бриайт Саварен, французский физиолог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                                             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ежим пит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Промежутки между отдельными приемами пищи не должны превышать 4–5 часов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Промежуток между ужином и завтраком следующего дня (ночной промежуток) не должен превышать 12 часов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. При обычном распорядке дня дети в школе получают завтрак, а при продленном дне – завтрак и обед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Домашнее питание должно дополнять школьное, что обеспечивает полноценность всего суточного пищевого рациона. Регулярный прием пищи ежедневно в одно и то же время в более или менее равномерных количествах является основой рационального детского питания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49160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Режим питания детей О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ежим питания детей,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анимающихся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 первую смену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1-й завтрак (8 часов) – 20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2-й завтрак (11 часов) – 20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Обед (15 часов) – 35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жин (20 часов) – 25%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Для школьников, занимающихся во вторую смену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Завтрак (8 часов 30 мин.) – 20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Обед (12 часов 30 мин.) – 35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олдник (16 часов 30 мин.) – 20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жин (20 часов 30 мин.) – 25%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00120" y="7308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00120" y="764640"/>
            <a:ext cx="7491600" cy="547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Питание детей должно наиболее полно удовлетворять как энергетические, так и ростовые нужды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Потребность в калориях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сутки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ЛЯ ДЕТЕЙ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ладшего школьного возраста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7 – 10 лет - 2400 ккал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такая же, как потребность в калориях пожилых людей 60–70 лет)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ЛЯ ДЕТЕЙ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в возрасте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11–13 лет - 2850 ккал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столько же, сколько и взрослые, занятые трудом, требующим несущественных физических усилий)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ЛЯ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ПОДРОСТКОВ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4–17 лет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ЮНОШЕЙ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- 3150 ккал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(большая, чем у взрослых)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остав пищевого рацион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белки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жиры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глеводы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минеральные вещества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итамины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Виды белков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животные 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сновные источники животного белка – молоко и молочные продукты, мясо, рыба и яйца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растительные  </a:t>
            </a: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сновные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источники растительного белка - хлебобулочные изделия, крупяные и макаронные изделия, а также картофель, горох, фасоль и т.д. 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Жир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наиболее важные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источники жира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: растительное и сливочное масло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Значение жиров в питании детей: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используются для роста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для построения нервной ткани и тканей мозга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жиры являются растворителями витаминов А и Д, обеспечивая наиболее полное их усвоение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Углевод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Углеводы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-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основной источник энергии для мышечной деятельности.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Количество углеводов в питании школьников должно быть в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4 раза больше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, чем белков и жиров, т. е.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320–420 г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в сутки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Нужно использовать легко усвояемые углеводы (сахар, мед, варенье, кондитерские изделия и др.)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00120" y="37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00120" y="764640"/>
            <a:ext cx="7491600" cy="547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Питание  ребенка должно   включать все пищевые вещества в оптимальных соотношениях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 каждый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 грамм белка должно приходиться 1 г жира и 4 г углеводов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Энергетическая ценность: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 г белка составляет 4 ккал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 г жира – 9 ккал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 г углеводов – 4 ккал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ругие органические вещества не учитываются, так как их содержание в продуктах незначительное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ять принципов рационального питания де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егулярность</a:t>
            </a: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.</a:t>
            </a: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Режим питания призван обеспечить равномерную нагрузку в системе пищеварения в течение дня, привычка питаться регулярно должна воспитываться с раннего детства, и основа ее – организация питания в семье, позволяющая сформировать "рефлекс на время"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азнообразие</a:t>
            </a: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Формирование у  детей разнообразного вкусового кругозора, чтобы  им нравились разные продукты и блюда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00120" y="7308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00120" y="907920"/>
            <a:ext cx="7491600" cy="533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Адекватность.</a:t>
            </a: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ища, которую съедает в течение дня ребенок, должна восполнять энерготраты его организма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Р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ацион и режим питания ребенка, активно занимающегося спортом, должен отличаться от рациона и режима питания его менее подвижных сверстников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Питание во время болезни – от питания в обычное врем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Летний стол – от зимнего стола и т.д.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деле контроля адекватности питания основная ответственность – на взрослых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76360" y="333360"/>
            <a:ext cx="7491600" cy="2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618920" y="692280"/>
            <a:ext cx="7203960" cy="55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Здоровое питание</a:t>
            </a: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–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это совместное воздействие потребляемой нами пищи, нашего состояния здоровья и предпринимаемых нами усилий для улучшения здоровья, как собственного, так и окружающих</a:t>
            </a:r>
            <a:r>
              <a:rPr b="1" i="1" lang="ru-RU" sz="2800" spc="-1" strike="noStrike">
                <a:solidFill>
                  <a:srgbClr val="333300"/>
                </a:solidFill>
                <a:latin typeface="Times New Roman"/>
              </a:rPr>
              <a:t>.</a:t>
            </a: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00120" y="37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00120" y="836640"/>
            <a:ext cx="7491600" cy="540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Безопасность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бучение правильному питанию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должно включать задачу формирования основных гигиенических навыков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Условия безопасности питания: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соблюдение ребенком правил личной гигиены,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мение различать свежие и несвежие продукты,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осторожное обращение с незнакомыми продуктами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Удовольствие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ак организовать процесс формирования навыков  здорового (правильного) питания?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Медико-санитарное просвещение на основе развития практических навыков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сновная цель школьного медико-санитарного просвещения - помочь учащимся перейти на здоровый образ жизни и создать условия, способствующие укреплению здоровья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49124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Формы поведения и условия, отождествляемые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со здоровым питанием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Формы поведения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, отождествляемые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со здоровым питанием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потребление в пищу главным образом злаковых/хлебных продуктов, овощей и фруктов;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Выбор в пользу продуктов из цельного зерна и свежих продуктов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потребление в пищу продуктов, содержащих важные витамины и минералы, например, витамин А, витамин С, железо и йод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меренное потребление сахара, жиров и соли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Диета с низким содержанием жиров;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потребление безопасной воды в количествах, необходимых для здоровья и утоления жажды;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Обязательное вскармливание грудью младенцев до четырех- - шестимесячного возраста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словия, способствующие безопасному здоровому питанию, включают в себя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оступность безопасной воды и удаление отходов;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оступ к дешевой здоровой пище;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бщественная поддержка здорового питани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403280" y="-360"/>
            <a:ext cx="7515360" cy="65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Как организовать процесс формирования навыков   здорового питания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у обучающихся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Направления работы: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Формирование жизненно-важных навыков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Информирование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Оздоровительное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ринцип обучения основам здорового пит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00120" y="1412640"/>
            <a:ext cx="7491600" cy="482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бучение основам  здорового питания должно отвечать принципу практической целесообразности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    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(все сведения, сообщаемые ребенку, формируемые навыки поведения, должны быть полезны в повседневной жизни)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Формы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медико-санитарного просвещения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обучающих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32000" y="1341360"/>
            <a:ext cx="741672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мини-</a:t>
            </a:r>
            <a:r>
              <a:rPr b="1" i="1" lang="ru-RU" sz="2000" spc="-1" strike="noStrike" u="sng">
                <a:solidFill>
                  <a:srgbClr val="333300"/>
                </a:solidFill>
                <a:uFillTx/>
                <a:latin typeface="Arial"/>
              </a:rPr>
              <a:t>лекции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, беседы, уроки здоровья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Образовательная программа «Разговор о правильном питании» </a:t>
            </a:r>
            <a:r>
              <a:rPr b="1" i="1" lang="ru-RU" sz="1600" spc="-1" strike="noStrike">
                <a:solidFill>
                  <a:srgbClr val="333300"/>
                </a:solidFill>
                <a:latin typeface="Arial"/>
              </a:rPr>
              <a:t>Института возрастной физиологии РАО;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ролевые игры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соревнования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Дискуссии, дебаты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Творческие конкурсы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Издание буклетов, мини-книжек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оформление «Уголка здорового питания», дневника здоровья, дневника питания;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формирование основ культуры здорового питания  через знакомство с народными традициями и обычаями, народной кухней;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Консультирование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Аудиовизуальные средства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476360" y="333000"/>
            <a:ext cx="7491600" cy="593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Формирование культуры питания – это всегда сотрудничество родителей и педагога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ервый шаг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на этом пути – сформировать у взрослых членов семьи понимание важности и значения правильного питания для здоровья ребенка и их собственного здоровья, расширить их осведомленность в этой области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торой шаг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– убедить родителей в практической пользе воспитательной работы, проводимой образовательным учреждением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Третий шаг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– не допустить неуважительного отношения к традициям питания в семье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Организация работы с родителями по вопросам пит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Формы работы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лекции,   тематические занятия, </a:t>
            </a:r>
            <a:r>
              <a:rPr b="1" i="1" lang="ru-RU" sz="2400" spc="-1" strike="noStrike" u="sng">
                <a:solidFill>
                  <a:srgbClr val="333300"/>
                </a:solidFill>
                <a:uFillTx/>
                <a:latin typeface="Arial"/>
              </a:rPr>
              <a:t>беседы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выставки продуктов детского питания;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формление информационного </a:t>
            </a:r>
            <a:r>
              <a:rPr b="1" i="1" lang="ru-RU" sz="2400" spc="-1" strike="noStrike" u="sng">
                <a:solidFill>
                  <a:srgbClr val="333300"/>
                </a:solidFill>
                <a:uFillTx/>
                <a:latin typeface="Arial"/>
              </a:rPr>
              <a:t>уголка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для родителей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издание буклетов, </a:t>
            </a:r>
            <a:r>
              <a:rPr b="1" i="1" lang="ru-RU" sz="2400" spc="-1" strike="noStrike" u="sng">
                <a:solidFill>
                  <a:srgbClr val="333300"/>
                </a:solidFill>
                <a:uFillTx/>
                <a:latin typeface="Arial"/>
              </a:rPr>
              <a:t>мини-книжек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тренинги;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консультирование;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рганизация совета по питанию;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клубы для родителей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выступление медиков, диетологов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Здоровый образ жизни </a:t>
            </a:r>
            <a:br>
              <a:rPr sz="3200"/>
            </a:b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равильное пит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00000" y="1700280"/>
            <a:ext cx="388944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В пище содержатся основные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питательные вещества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которые являются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строительным материалом для организма человека,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источником энергии,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укрепляют иммунитет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38" name="i-main-pic" descr="Картинка 4 из 14981"/>
          <p:cNvPicPr/>
          <p:nvPr/>
        </p:nvPicPr>
        <p:blipFill>
          <a:blip r:embed="rId1"/>
          <a:stretch/>
        </p:blipFill>
        <p:spPr>
          <a:xfrm>
            <a:off x="4572000" y="2057400"/>
            <a:ext cx="4371840" cy="3962520"/>
          </a:xfrm>
          <a:prstGeom prst="rect">
            <a:avLst/>
          </a:prstGeom>
          <a:ln w="0">
            <a:noFill/>
          </a:ln>
        </p:spPr>
      </p:pic>
      <p:sp>
        <p:nvSpPr>
          <p:cNvPr id="239" name="Line 5"/>
          <p:cNvSpPr/>
          <p:nvPr/>
        </p:nvSpPr>
        <p:spPr>
          <a:xfrm>
            <a:off x="609480" y="1523880"/>
            <a:ext cx="8001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00120" y="37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00120" y="764640"/>
            <a:ext cx="7491600" cy="547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Недостаточность питательных веществ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-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это физическое состояние человека, вызванное неправильно подобранной диетой или физической неспособностью усваивать   питательные вещества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Это понятие включает в себя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ереедание: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человек получает с пищей больше калорий, чем расходует, что приводит к избыточному телесному жиру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;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и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недоедание: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человек получает с пищей недостаточное количество калорий и питательных веществ, что приводит к уменьшению массы тела и/или дефициту питательных элементов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i-main-pic" descr="Картинка 11 из 3252"/>
          <p:cNvPicPr/>
          <p:nvPr/>
        </p:nvPicPr>
        <p:blipFill>
          <a:blip r:embed="rId1"/>
          <a:stretch/>
        </p:blipFill>
        <p:spPr>
          <a:xfrm>
            <a:off x="1835280" y="1557360"/>
            <a:ext cx="2209680" cy="32004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87280" y="304560"/>
            <a:ext cx="74995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омни: вредные продукты организм отравят и здоровья не прибавят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i-main-pic" descr="Картинка 17 из 3252"/>
          <p:cNvPicPr/>
          <p:nvPr/>
        </p:nvPicPr>
        <p:blipFill>
          <a:blip r:embed="rId2"/>
          <a:stretch/>
        </p:blipFill>
        <p:spPr>
          <a:xfrm>
            <a:off x="5292720" y="39337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43" name="i-main-pic" descr="Картинка 28 из 3252"/>
          <p:cNvPicPr/>
          <p:nvPr/>
        </p:nvPicPr>
        <p:blipFill>
          <a:blip r:embed="rId3"/>
          <a:stretch/>
        </p:blipFill>
        <p:spPr>
          <a:xfrm>
            <a:off x="5651640" y="1557360"/>
            <a:ext cx="2631960" cy="2136600"/>
          </a:xfrm>
          <a:prstGeom prst="rect">
            <a:avLst/>
          </a:prstGeom>
          <a:ln w="0">
            <a:noFill/>
          </a:ln>
        </p:spPr>
      </p:pic>
      <p:pic>
        <p:nvPicPr>
          <p:cNvPr id="244" name="i-main-pic" descr="Картинка 35 из 3252"/>
          <p:cNvPicPr/>
          <p:nvPr/>
        </p:nvPicPr>
        <p:blipFill>
          <a:blip r:embed="rId4"/>
          <a:srcRect l="6254" t="50012" r="12500" b="4168"/>
          <a:stretch/>
        </p:blipFill>
        <p:spPr>
          <a:xfrm>
            <a:off x="1692360" y="4941720"/>
            <a:ext cx="2971800" cy="1524240"/>
          </a:xfrm>
          <a:prstGeom prst="rect">
            <a:avLst/>
          </a:prstGeom>
          <a:ln w="0">
            <a:noFill/>
          </a:ln>
        </p:spPr>
      </p:pic>
      <p:sp>
        <p:nvSpPr>
          <p:cNvPr id="245" name="Line 9"/>
          <p:cNvSpPr/>
          <p:nvPr/>
        </p:nvSpPr>
        <p:spPr>
          <a:xfrm>
            <a:off x="684360" y="1341360"/>
            <a:ext cx="8001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Здоровый образ жизни </a:t>
            </a:r>
            <a:br>
              <a:rPr sz="3200"/>
            </a:b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Правильное пит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31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остоянно нужно есть -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Для здоровья важно - 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Фрукты, овощи, омлет,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Творог, простоквашу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48" name="i-main-pic" descr="Картинка 13 из 14981"/>
          <p:cNvPicPr/>
          <p:nvPr/>
        </p:nvPicPr>
        <p:blipFill>
          <a:blip r:embed="rId1"/>
          <a:stretch/>
        </p:blipFill>
        <p:spPr>
          <a:xfrm>
            <a:off x="4572000" y="2481120"/>
            <a:ext cx="4343400" cy="3081600"/>
          </a:xfrm>
          <a:prstGeom prst="rect">
            <a:avLst/>
          </a:prstGeom>
          <a:ln w="0">
            <a:noFill/>
          </a:ln>
        </p:spPr>
      </p:pic>
      <p:sp>
        <p:nvSpPr>
          <p:cNvPr id="249" name="Line 9"/>
          <p:cNvSpPr/>
          <p:nvPr/>
        </p:nvSpPr>
        <p:spPr>
          <a:xfrm>
            <a:off x="685800" y="1600200"/>
            <a:ext cx="8001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Здоровый образ жизни </a:t>
            </a:r>
            <a:br>
              <a:rPr sz="3200"/>
            </a:b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равильное пит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i-main-pic" descr="Картинка 20 из 14981"/>
          <p:cNvPicPr/>
          <p:nvPr/>
        </p:nvPicPr>
        <p:blipFill>
          <a:blip r:embed="rId1"/>
          <a:stretch/>
        </p:blipFill>
        <p:spPr>
          <a:xfrm>
            <a:off x="5522760" y="1698480"/>
            <a:ext cx="3260880" cy="3730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1499760" y="1762200"/>
            <a:ext cx="3676680" cy="22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Надо любить есть все овощи и фрукты, мясо и рыбу,  хлеб и кашу.  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263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Как гласит народная мудрость: «Овощи и фрукты – кладовая здоровья»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26352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02920" y="5638320"/>
            <a:ext cx="7435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«Я ем, чтобы быть здоровым!»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4" name="Line 7"/>
          <p:cNvSpPr/>
          <p:nvPr/>
        </p:nvSpPr>
        <p:spPr>
          <a:xfrm>
            <a:off x="685800" y="1523880"/>
            <a:ext cx="8001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52760" y="907560"/>
            <a:ext cx="702288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Благодарю за внимание!</a:t>
            </a:r>
            <a:br>
              <a:rPr sz="3600"/>
            </a:br>
            <a:r>
              <a:rPr b="0" i="1" lang="ru-RU" sz="5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76360" y="3357360"/>
            <a:ext cx="7392960" cy="28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Интернет ресурс 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http://pitanie-detey.ru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Питание детей. Все лучшее детям.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00"/>
                </a:solidFill>
                <a:latin typeface="Times New Roman"/>
              </a:rPr>
              <a:t>      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ричины недостаточности питательных веществ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 организме человек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00120" y="1844640"/>
            <a:ext cx="7491600" cy="43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инфекции, ухудшающие аппетит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тсутствие доступа к пище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недостаточно развитые медико-санитарные услуги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бедность.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00120" y="7308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00120" y="549360"/>
            <a:ext cx="7491600" cy="56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чему именно в образовательных учреждениях следует принимать меры по улучшению питания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Качественное питание укрепляет   здоровье детей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бразовательные учреждения играют жизненно важную роль, содействуя качественному питанию укрепляют способность детей к учению. 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Квалифицированные специалисты знают, как улучшить здоровье и самочувствие путем оказания помощи через школы, ДОУ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(внедрение учебных программ по медико-санитарному просвещению обучающихся и воспитанников).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109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Школы могут оказывать экономически эффективную помощь в области питания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школьные здравоохранительные программы, обеспечивающие безопасные и недорогие услуги в этой области, представляют собой один из наиболее рентабельных видов инвестиций государства на здравоохранение).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Просвещение и здоровое питание для девочек положительно влияет на здоровье членов семьи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109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00120" y="907920"/>
            <a:ext cx="7491600" cy="533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Здоровое питание уменьшает опасность возникновения проблем со здоровьем, наиболее характерных для настоящего времени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(проявление первых признаков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хронических заболеваний: ожирение, сердечно-сосудистые заболевания, рак и нарушения пищеварения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Просвещение в области питания оказывает   влияние на формирование полезных для здоровья привычек в этой области, что, в свою очередь, ведет к уменьшению опасности возникновения болезней, связанных с питанием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Благоприятная для здоровья среда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техническое окружение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Техническое окружение включает в себя школьное здание, классы, места питания, воду и продукты питания, предлагаемые в школе, а также саму местность, в которой находится школа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психосоциальное окружение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К психосоциальному окружению относятся социально-бытовые и психологические условия, влияющие на образование и здоровье школьников. (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Оно включает в себя культурные нормы и пожелания, касающиеся пищи и качества питания, высказываемые школьниками, родителями и школьным персоналом)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. 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09:18:02Z</dcterms:created>
  <dc:creator>anl</dc:creator>
  <dc:description/>
  <dc:language>en-US</dc:language>
  <cp:lastModifiedBy>User</cp:lastModifiedBy>
  <dcterms:modified xsi:type="dcterms:W3CDTF">2020-09-13T14:38:45Z</dcterms:modified>
  <cp:revision>135</cp:revision>
  <dc:subject/>
  <dc:title>Формирование культуры здорового питания © Легкошур И.М. старший методист «ЦСЗ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